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341EB-DA15-4E8D-883D-AEC5359D5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B959-70AC-4CFF-967B-3108DCAC4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D2468-BB88-4A8F-BFD0-E8762F1D74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508CC5-CCE4-4760-AD80-364BC1056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2AD7A-85A4-4C53-8B57-3CF0D2BBD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97DC1-003F-4456-B7E5-66E952C4B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EB70F-8B28-49A9-BBDE-FFE9C25FF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9B32F0-AC52-4857-BFD2-E0E17F547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E79FAB-CAE9-4A10-AF59-8B6238881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06B418-417D-4966-8F87-AE49506948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9AAC01-4DF0-47F1-8BEB-49EBB5C36E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6E121A-EB11-4BBE-A7FD-109DE73506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D779C-F008-4C24-886B-764D09949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6A599-2AB4-4101-822A-07D051147A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E1C2B9-7D98-4D36-AD99-117DE01BA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5BBCCD-325B-402A-8432-BEAF054EFF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F575A3-A9D4-4CEE-B076-1CB8DF3DD5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35113-E4DD-4523-84EF-D3D434103D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9BD7E-AB3F-4F4D-A36B-615FF3CA8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C1DA1-D313-48CC-BEF6-96C3549F0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CA21B-DDC3-4E22-B90D-984F77DCC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9055C-2978-434F-B3E7-193CD4B910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DBE6F6-14EF-42E0-B608-1F73F7964A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588EF-7425-492C-9417-1EC89EE0F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FCE7B8-9B89-4B6F-A367-BDAAA5EE7E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1E014F-9EAB-4C96-AD05-FB6BA1863D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A4827A-CB9E-4F87-9FC2-3AF6BEF8E0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54AE3C-C7FB-488A-BCC9-19ABADAFA4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BE8EF9-BDDF-4945-B26D-14536101C9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BDA6E5-4172-4F06-86E1-6E7F77A6F0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B0390B-4F17-40BC-802F-907EB94416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DB27A4-AFF5-4F1E-8C61-30F3403A24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107B7E-A2E7-4499-B879-4A2B8EB828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3CE84A-D2B9-4684-BFDE-0E678D37BF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2E2CA8-99AE-404C-A04A-1FEAED1CBD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27C647-E419-4FE2-ABD4-7E5FC6D558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ED820E-E70A-4DA9-9F86-C2F201494D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5E2A4F-CC3C-4252-AD3B-A3785EA9F9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D723DA-F70B-4474-9FD2-E13A425144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009ACD-86D9-4C67-ACFE-658FB4128F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8FD437-0C61-480B-ABCF-EC49DB9488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AC2047-FCFC-413E-BE71-03E0C9AC02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79F061-C303-47B6-BC1D-6B9F0CBF81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E5CBB5-84F1-4B47-A144-1D0CFC2354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63BDA8-AC96-4D08-8B61-C41BAFF16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8793D4-02A3-47E0-8C2A-C26FD66A3C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88DEA4-5E92-4E5E-B0B4-BEA2B2732F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958AAB-20FF-4216-9D9C-F584ECF51A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8F63CD-F7A1-40BA-A8EA-5D88D2E354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C184FD-D2D0-407A-9A7F-7AD1F737A1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0457B5-3FDF-4240-B368-617901FF62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9BF3D5-1F66-46A8-9E1D-30C8C51FEA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98F096-69E8-4EA5-87B2-49B6FCFF54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22AC01-CBD4-4EF2-8175-0B618D739F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EEC66C-01F8-4890-B88F-AAF102AE56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BD03C8-F0E1-4EEB-BD7C-1D4D4D3C38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EA0A48-C08C-4AD2-89AA-C083262237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3015FF-EB0C-4752-97B5-AD2D2A3617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8AEB8E-2352-4FF8-B6F8-C9015C6B39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619605-C390-4B31-9B0F-E41427D2E63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1D5B19-8DF2-44EF-A1BD-E670EF91EA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39E61A-D793-45C7-A0D8-40D4287195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9F15C4-9164-4A8B-BF45-BFC6A7AA6D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93EF23-AF82-444C-967C-253DEF5B6F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AF1D2F-B452-47E1-A7CC-7EB86E8C78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AABE8A-C642-49F0-8997-FCF8C7E671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2DC596-DB24-47BD-B6B9-64C267B34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7BD32B-59C8-4253-A07B-D4EF31FB77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97FDDF-2EE5-40C5-9F9D-6C8380DEFC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2FC500-DCF6-43F0-8DAF-E1B0C41093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39B5EE-A1EB-4A1F-8957-DE7BDEFC81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FB6035-38CA-4B66-98FC-CE690CAB23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49F5C5-7E17-43EC-9D2C-6A5D688006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88B0B-BB2E-4C97-9BAE-B8E3330A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0E8AB1-DC64-46B2-99BA-B65221F7653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BFAF6C-E97A-4C9C-9133-9A20AE86C47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8C29ED-2AF8-4E95-A565-D594B67103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84B9DE-98B9-4864-AB0B-19DE44174A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67FEC0-ED70-4FA2-B5CF-01B5E77B16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727E-59E4-4C31-A58D-A0690394A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947EEF-1AF2-4530-98CE-3FE8F9E74F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AD84C7-CFB1-4DBE-BF36-263CE614AE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69A147-78F7-444E-A8B0-C2AEEBD652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7806D2-783E-4AAC-A431-272A34F078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27F9A0-B608-4BFD-9643-CDFF46B27E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FE52B6-723B-4627-9A92-C9358D3EBB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D559F8-C3EC-4407-B86E-D614C5E376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C7E62-E0BF-4EA6-BEA5-1A6C20D16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71E3F-099C-4C53-A621-28F6EEC45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C7A28-F327-4DD7-9C12-6F8C1FE9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F11F41-0985-4B8C-A8B7-67745F0035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202AC-EB6E-418D-9C85-248BD1D89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D9123-5967-4D89-B5DB-1FFAC55A1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78B2D-03C8-4A44-B730-FCFFE516C4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AE6B13-1A03-48A8-9E51-C28DBEEB0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8A97D3-4CF1-42F5-8A4F-9F4F4720E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5BFB0-1CBF-4563-9331-9A2868272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C46E2-325F-49BA-AC82-C98D7B548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420E3-8549-4800-9D23-4A4B29B2C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815E-FEAD-402C-81B8-E77C8D60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055EA-B7B5-4B7D-8010-C624A49CE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EDE28A-1F28-4317-B5B4-FFFEF24164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4C6854-9F9C-43F1-AAD5-3E40C4EA0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5BBD1E-3B23-4349-8F04-23CF8AF1F9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FF47F-A6F3-4FB5-A5BA-EEFA44B9A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DF326-42E5-41CB-86A4-E7B32D2FB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E95659-CDEE-4D97-ABC0-27781E2BC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323E2F-EBFA-416F-8666-134BA88A8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3D2F33-1A22-44FE-BF0C-A433D3614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8FB84-AFCE-496A-B114-F1C425EA5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8A7A-339A-4BFD-BFCF-746031C9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11943E-0747-440B-BFD1-D2CDB85A9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B9A0C-4267-4A61-9EE1-35061F878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BCBC65-8BA6-4DBD-BEDB-6D1D53083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96AFC6-96E3-46ED-BF12-2F139D0904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C874FB-6697-4772-988D-6EF65C1702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CF1AF5-AB8B-4587-A661-8486B8CCD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5C02B6-974E-4D02-93B2-10BF3FAB4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E0F86-D03D-4B58-81F0-2C3F059482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E81A1-0222-474D-8C12-EB6C88ED9E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C6C46-B263-4B42-85EB-1AAAF748E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6246-4266-4DA5-B4E1-AC769CCEB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3835D-7D6F-41C5-97C6-B1B7443F75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F6E8F-8035-4BC8-B914-3FE7756A7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6D9C8-22EC-48ED-80B3-779F776D0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3A85D-62A1-454C-B643-A23A578BC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F7AA7C-6C24-4F84-98FB-4982B8B8C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596AE2-1201-4BEA-86AA-10CC981C6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74F1B9-3757-4897-8DCC-4E4BB0CF5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EF6F87-1DAB-47E2-B067-50F11D9076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F5EE6-B658-48D3-BDB1-DD17C9BAC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6C7E92-855A-4EB1-B9CA-B184280622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3DD9C-1CDB-40C4-812E-DBAE088C1CAA}"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895FD-381C-4973-831F-7918236E2FDA}"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92" name="Teardrop 8"/>
            <p:cNvSpPr/>
            <p:nvPr/>
          </p:nvSpPr>
          <p:spPr>
            <a:xfrm>
              <a:off x="3886200" y="431640"/>
              <a:ext cx="353880" cy="35532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A6AE2-0217-4B75-A2E4-B184E30610DD}"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45789-7B8C-4AA4-A4CA-07E70662CC11}"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37" name="Teardrop 8"/>
            <p:cNvSpPr/>
            <p:nvPr/>
          </p:nvSpPr>
          <p:spPr>
            <a:xfrm>
              <a:off x="3886200" y="431640"/>
              <a:ext cx="353880" cy="35532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368BB-8A4B-4A67-B8AD-B679EB53EAC2}"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88720-7F87-4229-9959-D99B7B5A61B3}"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44ECE-7F77-4933-B31F-B0F0695A18F6}"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6B57E-6828-4666-BCD7-CE87DE1E09E6}"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0CDC2-4C53-4307-916A-9CB976BD3443}"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77607-6FA7-46D0-8BB3-1DBFF45A663E}"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6906B-6B89-4755-BB84-EBAFDC0B1762}"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5378D-A4FF-404C-B35D-B881240588A8}"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200"/>
                <a:ext cx="7543800" cy="259092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4"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2400" spc="-1" strike="noStrike">
                  <a:solidFill>
                    <a:srgbClr val="103154"/>
                  </a:solidFill>
                  <a:latin typeface="Arial"/>
                </a:endParaRPr>
              </a:p>
            </p:txBody>
          </p:sp>
        </p:grpSp>
        <p:sp>
          <p:nvSpPr>
            <p:cNvPr id="45" name="Teardrop 8"/>
            <p:cNvSpPr/>
            <p:nvPr/>
          </p:nvSpPr>
          <p:spPr>
            <a:xfrm>
              <a:off x="6818400" y="3620880"/>
              <a:ext cx="393480" cy="39528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4D001-83D0-45DC-B37C-00575B48679B}" type="datetime">
              <a:rPr b="1" lang="en-US" sz="1400" spc="-1" strike="noStrike">
                <a:solidFill>
                  <a:srgbClr val="7f7f7f"/>
                </a:solidFill>
                <a:latin typeface="Corbel"/>
              </a:rPr>
              <a:t>07/31/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FD5A0-EF7B-4D21-AFB9-C4A3B64F9790}"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7202F-8C8B-4B93-88A9-10C35FB2FBB0}"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200"/>
                <a:ext cx="7543800" cy="259092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132"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2400" spc="-1" strike="noStrike">
                  <a:solidFill>
                    <a:srgbClr val="103154"/>
                  </a:solidFill>
                  <a:latin typeface="Arial"/>
                </a:endParaRPr>
              </a:p>
            </p:txBody>
          </p:sp>
        </p:grpSp>
        <p:sp>
          <p:nvSpPr>
            <p:cNvPr id="133" name="Teardrop 8"/>
            <p:cNvSpPr/>
            <p:nvPr/>
          </p:nvSpPr>
          <p:spPr>
            <a:xfrm>
              <a:off x="6818400" y="3620880"/>
              <a:ext cx="393480" cy="39528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8A244-BA3F-470B-8487-5107732AF372}" type="datetime">
              <a:rPr b="1" lang="en-US" sz="1400" spc="-1" strike="noStrike">
                <a:solidFill>
                  <a:srgbClr val="7f7f7f"/>
                </a:solidFill>
                <a:latin typeface="Corbel"/>
              </a:rPr>
              <a:t>07/31/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120"/>
                <a:ext cx="7543800" cy="259092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177" name="Straight Connector 10"/>
              <p:cNvSpPr/>
              <p:nvPr/>
            </p:nvSpPr>
            <p:spPr>
              <a:xfrm flipH="1">
                <a:off x="1599840" y="212724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2400" spc="-1" strike="noStrike">
                  <a:solidFill>
                    <a:srgbClr val="103154"/>
                  </a:solidFill>
                  <a:latin typeface="Arial"/>
                </a:endParaRPr>
              </a:p>
            </p:txBody>
          </p:sp>
        </p:grpSp>
        <p:sp>
          <p:nvSpPr>
            <p:cNvPr id="178" name="Teardrop 8"/>
            <p:cNvSpPr/>
            <p:nvPr/>
          </p:nvSpPr>
          <p:spPr>
            <a:xfrm>
              <a:off x="8521920" y="2368440"/>
              <a:ext cx="393480" cy="39528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69774-54FF-45E9-A068-9392C35DD35E}" type="datetime">
              <a:rPr b="1" lang="en-US" sz="1400" spc="-1" strike="noStrike">
                <a:solidFill>
                  <a:srgbClr val="7f7f7f"/>
                </a:solidFill>
                <a:latin typeface="Corbel"/>
              </a:rPr>
              <a:t>07/31/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29C11-9BC2-49E3-83AD-CDE364B2C3BB}"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CF8D0-D2F2-4C4D-AA1A-8BE1DA928828}"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C443B-4715-479A-83B2-275EE7522616}"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F27CD-681D-402B-B64E-BBF7483CFD87}"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6278B-A507-47C3-9843-D63F7D30DC89}"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150B7-42A4-42FE-A9F7-99481FAA8748}"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4BBDA-5CE1-4679-9DF2-898DB2058FE9}" type="datetime">
              <a:rPr b="1" lang="en-US" sz="1100" spc="-1" strike="noStrike">
                <a:solidFill>
                  <a:srgbClr val="a6a6a6"/>
                </a:solidFill>
                <a:latin typeface="Corbel"/>
              </a:rPr>
              <a:t>07/31/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9EBFC-B599-4492-B46B-8FD0E4903E9E}"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nticipatory Set (Do Now)</a:t>
            </a:r>
            <a:endParaRPr b="0" lang="en-US" sz="3800" spc="-1" strike="noStrike">
              <a:solidFill>
                <a:srgbClr val="174576"/>
              </a:solidFill>
              <a:latin typeface="Corbel"/>
            </a:endParaRPr>
          </a:p>
        </p:txBody>
      </p:sp>
      <p:sp>
        <p:nvSpPr>
          <p:cNvPr id="607"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174576"/>
                </a:solidFill>
                <a:latin typeface="Corbel"/>
              </a:rPr>
              <a:t>What would be a good adaptation for the desert?</a:t>
            </a:r>
            <a:endParaRPr b="0" lang="en-US" sz="68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63040" y="274680"/>
            <a:ext cx="5126040" cy="368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8 – Would this organism be able to survive in the taiga?  Why or why not?</a:t>
            </a:r>
            <a:endParaRPr b="0" lang="en-US" sz="3800" spc="-1" strike="noStrike">
              <a:solidFill>
                <a:srgbClr val="174576"/>
              </a:solidFill>
              <a:latin typeface="Corbel"/>
            </a:endParaRPr>
          </a:p>
        </p:txBody>
      </p:sp>
      <p:pic>
        <p:nvPicPr>
          <p:cNvPr id="626" name="Picture 2" descr=""/>
          <p:cNvPicPr/>
          <p:nvPr/>
        </p:nvPicPr>
        <p:blipFill>
          <a:blip r:embed="rId2"/>
          <a:stretch/>
        </p:blipFill>
        <p:spPr>
          <a:xfrm>
            <a:off x="5689440" y="0"/>
            <a:ext cx="3454560" cy="491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txBox="1"/>
          <p:nvPr/>
        </p:nvSpPr>
        <p:spPr>
          <a:xfrm>
            <a:off x="306000" y="244080"/>
            <a:ext cx="8629560" cy="6288120"/>
          </a:xfrm>
          <a:prstGeom prst="rect">
            <a:avLst/>
          </a:prstGeom>
          <a:noFill/>
          <a:ln w="0">
            <a:noFill/>
          </a:ln>
        </p:spPr>
        <p:txBody>
          <a:bodyPr anchor="t">
            <a:normAutofit fontScale="93000"/>
          </a:bodyPr>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74576"/>
                </a:solidFill>
                <a:latin typeface="Corbel"/>
              </a:rPr>
              <a:t>The stick insect resembles the twigs among which it lives, providing it with one of the most efficient natural camouflages on Earth.  Stick insects generally mimic their surroundings in color, normally green or brown. Many stick insects feign death to thwart predators, and some will shed the occasional limb to escape an enemy’s grasp. </a:t>
            </a:r>
            <a:endParaRPr b="0" lang="en-US" sz="30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74576"/>
                </a:solidFill>
                <a:uFillTx/>
                <a:latin typeface="Corbel"/>
              </a:rPr>
              <a:t>Name one adaptation of the stick insect. It resembles a twig.</a:t>
            </a:r>
            <a:endParaRPr b="0" lang="en-US" sz="32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74576"/>
                </a:solidFill>
                <a:uFillTx/>
                <a:latin typeface="Corbel"/>
              </a:rPr>
              <a:t>What is this adaptation used for? This adaptation allows them to hide from predators.</a:t>
            </a:r>
            <a:endParaRPr b="0" lang="en-US" sz="32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3"/>
          <p:cNvSpPr/>
          <p:nvPr/>
        </p:nvSpPr>
        <p:spPr>
          <a:xfrm>
            <a:off x="1438200" y="12081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629" name=""/>
          <p:cNvSpPr txBox="1"/>
          <p:nvPr/>
        </p:nvSpPr>
        <p:spPr>
          <a:xfrm>
            <a:off x="320400" y="244080"/>
            <a:ext cx="8537400" cy="6288120"/>
          </a:xfrm>
          <a:prstGeom prst="rect">
            <a:avLst/>
          </a:prstGeom>
          <a:noFill/>
          <a:ln w="0">
            <a:noFill/>
          </a:ln>
        </p:spPr>
        <p:txBody>
          <a:bodyPr anchor="t">
            <a:normAutofit fontScale="95000"/>
          </a:bodyPr>
          <a:p>
            <a:pPr marL="325800" indent="-3258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174576"/>
                </a:solidFill>
                <a:uFillTx/>
                <a:latin typeface="Corbel"/>
              </a:rPr>
              <a:t>How is the stick insect’s chance of survival influenced by adaptations to its environment?  (Include at least 1 adaptation in your answer, and explain how that adaptation helps it to survive in its environment.)</a:t>
            </a:r>
            <a:endParaRPr b="0" lang="en-US" sz="3500" spc="-1" strike="noStrike">
              <a:solidFill>
                <a:srgbClr val="174576"/>
              </a:solidFill>
              <a:latin typeface="Corbel"/>
            </a:endParaRPr>
          </a:p>
          <a:p>
            <a:pPr marL="325800" indent="-3258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4576"/>
                </a:solidFill>
                <a:uFillTx/>
                <a:latin typeface="Corbel"/>
              </a:rPr>
              <a:t>The stick insect looks like a stick.  This adaptation helps the stick insect to survive because its predators cannot see it and eat it.</a:t>
            </a:r>
            <a:endParaRPr b="0" lang="en-US" sz="4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3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174576"/>
                </a:solidFill>
                <a:latin typeface="Corbel"/>
              </a:rPr>
              <a:t>Part 2 – 4-7</a:t>
            </a:r>
            <a:endParaRPr b="0" lang="en-US" sz="76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0" y="3429000"/>
            <a:ext cx="7238880" cy="2557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u="sng">
                <a:solidFill>
                  <a:srgbClr val="174576"/>
                </a:solidFill>
                <a:uFillTx/>
                <a:latin typeface="Corbel"/>
              </a:rPr>
              <a:t>1.7 Adaptation Identification</a:t>
            </a:r>
            <a:endParaRPr b="0" lang="en-US" sz="73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genda</a:t>
            </a:r>
            <a:endParaRPr b="0" lang="en-US" sz="3800" spc="-1" strike="noStrike">
              <a:solidFill>
                <a:srgbClr val="174576"/>
              </a:solidFill>
              <a:latin typeface="Corbel"/>
            </a:endParaRPr>
          </a:p>
        </p:txBody>
      </p:sp>
      <p:sp>
        <p:nvSpPr>
          <p:cNvPr id="610" name=""/>
          <p:cNvSpPr txBox="1"/>
          <p:nvPr/>
        </p:nvSpPr>
        <p:spPr>
          <a:xfrm>
            <a:off x="779040" y="1949400"/>
            <a:ext cx="7583400" cy="4006800"/>
          </a:xfrm>
          <a:prstGeom prst="rect">
            <a:avLst/>
          </a:prstGeom>
          <a:noFill/>
          <a:ln w="0">
            <a:noFill/>
          </a:ln>
        </p:spPr>
        <p:txBody>
          <a:bodyPr anchor="t">
            <a:normAutofit/>
          </a:bodyPr>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nticipatory Set: (Do Now)</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Review</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nput</a:t>
            </a:r>
            <a:endParaRPr b="0" lang="en-US" sz="2000" spc="-1" strike="noStrike">
              <a:solidFill>
                <a:srgbClr val="174576"/>
              </a:solidFill>
              <a:latin typeface="Corbel"/>
            </a:endParaRPr>
          </a:p>
          <a:p>
            <a:pPr lvl="1" marL="685800" indent="-3366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Adaptation ID</a:t>
            </a:r>
            <a:endParaRPr b="0" lang="en-US" sz="1900" spc="-1" strike="noStrike">
              <a:solidFill>
                <a:srgbClr val="174576"/>
              </a:solidFill>
              <a:latin typeface="Corbel"/>
            </a:endParaRPr>
          </a:p>
          <a:p>
            <a:pPr lvl="1" marL="685800" indent="-3366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Writing Rubric</a:t>
            </a:r>
            <a:endParaRPr b="0" lang="en-US" sz="1900" spc="-1" strike="noStrike">
              <a:solidFill>
                <a:srgbClr val="174576"/>
              </a:solidFill>
              <a:latin typeface="Corbel"/>
            </a:endParaRPr>
          </a:p>
          <a:p>
            <a:pPr lvl="1" marL="685800" indent="-3366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Reading Passages</a:t>
            </a:r>
            <a:endParaRPr b="0" lang="en-US" sz="19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Guided Practice</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ndependent Practice</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Journal</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8680" y="274320"/>
            <a:ext cx="3443400" cy="281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174576"/>
                </a:solidFill>
                <a:uFillTx/>
                <a:latin typeface="Corbel"/>
              </a:rPr>
              <a:t>1 - Would this organism be able to survive in the tundra? Why or why not? </a:t>
            </a:r>
            <a:endParaRPr b="0" lang="en-US" sz="3400" spc="-1" strike="noStrike">
              <a:solidFill>
                <a:srgbClr val="174576"/>
              </a:solidFill>
              <a:latin typeface="Corbel"/>
            </a:endParaRPr>
          </a:p>
        </p:txBody>
      </p:sp>
      <p:sp>
        <p:nvSpPr>
          <p:cNvPr id="612" name=""/>
          <p:cNvSpPr txBox="1"/>
          <p:nvPr/>
        </p:nvSpPr>
        <p:spPr>
          <a:xfrm>
            <a:off x="339480" y="3255480"/>
            <a:ext cx="8319960" cy="3124440"/>
          </a:xfrm>
          <a:prstGeom prst="rect">
            <a:avLst/>
          </a:prstGeom>
          <a:noFill/>
          <a:ln w="0">
            <a:noFill/>
          </a:ln>
        </p:spPr>
        <p:txBody>
          <a:bodyPr anchor="t">
            <a:normAutofit/>
          </a:bodyPr>
          <a:p>
            <a:pPr marL="343080" indent="-34308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4576"/>
                </a:solidFill>
                <a:uFillTx/>
                <a:latin typeface="Corbel"/>
              </a:rPr>
              <a:t>Yes, this organism would be able to survive in the tundra because it has thick white fur that will keep it warm and camouflage it in the snow.</a:t>
            </a:r>
            <a:endParaRPr b="0" lang="en-US" sz="4000" spc="-1" strike="noStrike">
              <a:solidFill>
                <a:srgbClr val="174576"/>
              </a:solidFill>
              <a:latin typeface="Corbel"/>
            </a:endParaRPr>
          </a:p>
        </p:txBody>
      </p:sp>
      <p:pic>
        <p:nvPicPr>
          <p:cNvPr id="613" name="Picture 2" descr=""/>
          <p:cNvPicPr/>
          <p:nvPr/>
        </p:nvPicPr>
        <p:blipFill>
          <a:blip r:embed="rId2"/>
          <a:stretch/>
        </p:blipFill>
        <p:spPr>
          <a:xfrm>
            <a:off x="4483080" y="274680"/>
            <a:ext cx="4660920" cy="29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2 -  Would this organism be able to survive in the tundra?  Why or why not?</a:t>
            </a:r>
            <a:endParaRPr b="0" lang="en-US" sz="3400" spc="-1" strike="noStrike">
              <a:solidFill>
                <a:srgbClr val="174576"/>
              </a:solidFill>
              <a:latin typeface="Corbel"/>
            </a:endParaRPr>
          </a:p>
        </p:txBody>
      </p:sp>
      <p:sp>
        <p:nvSpPr>
          <p:cNvPr id="615" name=""/>
          <p:cNvSpPr txBox="1"/>
          <p:nvPr/>
        </p:nvSpPr>
        <p:spPr>
          <a:xfrm>
            <a:off x="244080" y="1698120"/>
            <a:ext cx="8118360" cy="4257720"/>
          </a:xfrm>
          <a:prstGeom prst="rect">
            <a:avLst/>
          </a:prstGeom>
          <a:noFill/>
          <a:ln w="0">
            <a:noFill/>
          </a:ln>
        </p:spPr>
        <p:txBody>
          <a:bodyPr anchor="t">
            <a:normAutofit fontScale="97000"/>
          </a:bodyPr>
          <a:p>
            <a:pPr marL="332640" indent="-33264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576"/>
                </a:solidFill>
                <a:latin typeface="Corbel"/>
              </a:rPr>
              <a:t>No, this organism would not be able to survive in the tundra.  Even though its shell will protect it from predators, the shell will not keep the turtle warm enough for it to survive in the tundra.</a:t>
            </a:r>
            <a:endParaRPr b="0" lang="en-US" sz="4000" spc="-1" strike="noStrike">
              <a:solidFill>
                <a:srgbClr val="174576"/>
              </a:solidFill>
              <a:latin typeface="Corbel"/>
            </a:endParaRPr>
          </a:p>
        </p:txBody>
      </p:sp>
      <p:pic>
        <p:nvPicPr>
          <p:cNvPr id="616" name="Picture 2" descr=""/>
          <p:cNvPicPr/>
          <p:nvPr/>
        </p:nvPicPr>
        <p:blipFill>
          <a:blip r:embed="rId2"/>
          <a:stretch/>
        </p:blipFill>
        <p:spPr>
          <a:xfrm>
            <a:off x="6124680" y="4727520"/>
            <a:ext cx="2712960" cy="213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63040" y="845640"/>
            <a:ext cx="7667640" cy="114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3 - Would this organism be able to survive in the tropical rainforest?  Why or why not?</a:t>
            </a:r>
            <a:endParaRPr b="0" lang="en-US" sz="3400" spc="-1" strike="noStrike">
              <a:solidFill>
                <a:srgbClr val="174576"/>
              </a:solidFill>
              <a:latin typeface="Corbel"/>
            </a:endParaRPr>
          </a:p>
        </p:txBody>
      </p:sp>
      <p:pic>
        <p:nvPicPr>
          <p:cNvPr id="618" name="Picture 2" descr=""/>
          <p:cNvPicPr/>
          <p:nvPr/>
        </p:nvPicPr>
        <p:blipFill>
          <a:blip r:embed="rId2"/>
          <a:stretch/>
        </p:blipFill>
        <p:spPr>
          <a:xfrm>
            <a:off x="4146480" y="3111480"/>
            <a:ext cx="4997520" cy="374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63040" y="274320"/>
            <a:ext cx="7667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4 – Would this organism be able to survive in the grassland?  Why or why not?</a:t>
            </a:r>
            <a:endParaRPr b="0" lang="en-US" sz="3400" spc="-1" strike="noStrike">
              <a:solidFill>
                <a:srgbClr val="174576"/>
              </a:solidFill>
              <a:latin typeface="Corbel"/>
            </a:endParaRPr>
          </a:p>
        </p:txBody>
      </p:sp>
      <p:pic>
        <p:nvPicPr>
          <p:cNvPr id="620" name="Picture 4" descr=""/>
          <p:cNvPicPr/>
          <p:nvPr/>
        </p:nvPicPr>
        <p:blipFill>
          <a:blip r:embed="rId2"/>
          <a:stretch/>
        </p:blipFill>
        <p:spPr>
          <a:xfrm>
            <a:off x="3714840" y="2487600"/>
            <a:ext cx="507996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63040" y="274320"/>
            <a:ext cx="4008600" cy="341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10 – Would this organism be able to survive in the desert? Why or why not?</a:t>
            </a:r>
            <a:endParaRPr b="0" lang="en-US" sz="3800" spc="-1" strike="noStrike">
              <a:solidFill>
                <a:srgbClr val="174576"/>
              </a:solidFill>
              <a:latin typeface="Corbel"/>
            </a:endParaRPr>
          </a:p>
        </p:txBody>
      </p:sp>
      <p:pic>
        <p:nvPicPr>
          <p:cNvPr id="622" name="Picture 2" descr=""/>
          <p:cNvPicPr/>
          <p:nvPr/>
        </p:nvPicPr>
        <p:blipFill>
          <a:blip r:embed="rId2"/>
          <a:stretch/>
        </p:blipFill>
        <p:spPr>
          <a:xfrm>
            <a:off x="4613400" y="0"/>
            <a:ext cx="45306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63400" y="274680"/>
            <a:ext cx="3200400" cy="315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7- Would this organism be able to survive in the tropical rainforest? Why or why not?</a:t>
            </a:r>
            <a:endParaRPr b="0" lang="en-US" sz="3400" spc="-1" strike="noStrike">
              <a:solidFill>
                <a:srgbClr val="174576"/>
              </a:solidFill>
              <a:latin typeface="Corbel"/>
            </a:endParaRPr>
          </a:p>
        </p:txBody>
      </p:sp>
      <p:pic>
        <p:nvPicPr>
          <p:cNvPr id="624" name="Picture 2" descr=""/>
          <p:cNvPicPr/>
          <p:nvPr/>
        </p:nvPicPr>
        <p:blipFill>
          <a:blip r:embed="rId2"/>
          <a:stretch/>
        </p:blipFill>
        <p:spPr>
          <a:xfrm>
            <a:off x="4146480" y="0"/>
            <a:ext cx="4997520" cy="479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8:28:47Z</dcterms:created>
  <dc:creator>Caroline Roth</dc:creator>
  <dc:description/>
  <dc:language>en-US</dc:language>
  <cp:lastModifiedBy>Caroline Roth</cp:lastModifiedBy>
  <dcterms:modified xsi:type="dcterms:W3CDTF">2011-05-23T04:40:46Z</dcterms:modified>
  <cp:revision>17</cp:revision>
  <dc:subject/>
  <dc:title>Slide 1</dc:title>
</cp:coreProperties>
</file>